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5E0-C1DF-47C5-AAC6-B0806444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D2B-30CA-430B-A740-A8BC7645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6B1-FCE4-451C-9B66-06B68E61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C3B-2F8E-4162-9CE6-8D78280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1416-41C9-4C52-99A1-09A71A10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9AAB-E4F0-47E0-B558-9447F4B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F0E-8DDC-4A34-9401-8745E4B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06D4-A43E-49CE-9F45-42C71AC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B52-E072-460E-B57E-CDDF1B6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135-A739-406A-9D99-F1E2BAE0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6B73-9FA8-4E7E-9579-BF3292F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26C-0BFC-47B1-BF0B-24BC7B6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DFA4-8DE9-47B0-B080-B7C11C0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7C7E-12DB-417A-87B4-5DC2B74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2CD2-5DBE-4B12-B35F-17B180F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76F5-3C6E-4333-95AC-3BA1CD03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465-CAE7-4A3E-B771-8C0F4FA0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BA8-D807-4F0F-B419-5DF0491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149-8C4F-4AA7-9B32-C8C0021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174-8D4D-493B-8632-221E3B3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9E5-AAF5-4741-B8EC-0082952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B08-9BFD-4146-91FC-0F1EADF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C11-EC9A-47F5-8076-00759DA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38E-C546-4059-A79F-4DA05E4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76A1-4DE9-4EAA-B26F-3EF95928A2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2D49-286A-4FD9-A32F-194B23A030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rtoonistgroup.com/store/add.php?iid=38453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Q-A-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“</a:t>
            </a:r>
            <a:r>
              <a:rPr b="0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In My Head”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questions require you to answer with information beyond what is in th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understanding of stated information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ing something with it beyond what was writt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would be an “In Your Head Question?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Content Placeholder 13" descr="2789735835_18b21d62a6_o.jpg"/>
          <p:cNvPicPr/>
          <p:nvPr/>
        </p:nvPicPr>
        <p:blipFill>
          <a:blip r:embed="rId1"/>
          <a:srcRect l="-45594" t="0" r="-45594" b="0"/>
          <a:stretch/>
        </p:blipFill>
        <p:spPr>
          <a:xfrm>
            <a:off x="914400" y="167652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“</a:t>
            </a:r>
            <a:r>
              <a:rPr b="0" lang="en-US" sz="4200" spc="-1" strike="noStrike" u="sng">
                <a:solidFill>
                  <a:srgbClr val="006633"/>
                </a:solidFill>
                <a:uFillTx/>
                <a:latin typeface="Garamond"/>
              </a:rPr>
              <a:t>In My Head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st, analyze, examine, differentiate, distinguish. Analysis level on Bloom’s Taxonom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, illustrate, calculate, create, compose, debate, infer, solve. Synthesis level on Bloom’s Taxonom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aise, judge, rate, score, rank, defend, justify. Evaluation level of Bloom’s Taxonom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urpose of Q-A-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ramework/methodology/formula to help students re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questions while reading… in order to keep a student’s atten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students with a purpose for rea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s critical thinking- not everything is answered by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 Types of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he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and Search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y Hea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ight There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swer to the question is directly stated in th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formation is copied for the answ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level on Bloom’s Taxonom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drant A on Rigor and Relev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? What? When? Where? Name. Lis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36831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would a “Right There” question b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348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nk and Search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and search questions are inferred by the t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requires several sentences or sections of the reading to be put together in order to come up with an answ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. Explain the cause. Compare. Contr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nk and Search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would a think and search question b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ink and Search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, summarize, compare, explain, restate, discuss, report, find examples, discuss, for what reason, what caused. Comprehension level on Bloom’s Taxono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y, calculate, collect, organize. Application level on Bloom’s Taxono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6:07:12Z</dcterms:created>
  <dc:creator>Shawn Her</dc:creator>
  <dc:description/>
  <dc:language>en-US</dc:language>
  <cp:lastModifiedBy>Shawn Hyer</cp:lastModifiedBy>
  <dcterms:modified xsi:type="dcterms:W3CDTF">2009-11-30T12:52:32Z</dcterms:modified>
  <cp:revision>7</cp:revision>
  <dc:subject/>
  <dc:title>Q-A-R</dc:title>
</cp:coreProperties>
</file>